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0F5-E566-40A5-A21F-61783C72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C23-7854-4CF2-9A8E-71C7F0AF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C20-2E6A-4992-B2A4-0256BEC8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5D0-84A3-4AE1-88F1-84F142E3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73AA-3DB8-44C1-8E9D-A5374458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89F9-0798-461F-9018-E5AB5ADF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1044-5342-4D80-844B-FF622F0F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6A15-2CA9-4B04-B232-10A02F86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A70B-10EB-42B3-9A82-58FBE39F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06CF-0711-441D-B93B-29730713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2A74-466F-4BA7-990E-6FCF28DB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CED-4F67-4607-8B23-69A9D77E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DE8A-13E1-4F27-B059-F17F9C94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98BA-8726-4410-A771-907F7E09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DA1F-0803-4387-98E7-23FA0A5E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984D-F60A-4DB1-9D07-00BD031A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5ECB-8FB5-42BC-B2A9-591F336F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C46-2220-4C2B-98C4-BDA4D4DF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9D4-FCD4-433E-9D1B-CB671AD5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D0D-F655-4FBD-AD35-D00FFD44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154-17B6-4B9F-A4AB-A8F45A2C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5AA-62C0-4F7C-909B-DF62C072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51D-C435-424C-BC9D-6D48C1E2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591-A973-42FA-BCFF-97236FA9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. 1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lidades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88320" y="3124080"/>
            <a:ext cx="258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1584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6396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eg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37800 w 380880"/>
              <a:gd name="textAreaRight" fmla="*/ 343080 w 380880"/>
              <a:gd name="textAreaTop" fmla="*/ 152640 h 381240"/>
              <a:gd name="textAreaBottom" fmla="*/ 228960 h 381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62976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43320" y="5410080"/>
            <a:ext cx="763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llegu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arde para la fiest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383040" y="2209680"/>
            <a:ext cx="324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gar (g…gu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86520" y="3124080"/>
            <a:ext cx="265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Z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15120" y="419112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962880" y="419112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37800 w 380880"/>
              <a:gd name="textAreaRight" fmla="*/ 343080 w 380880"/>
              <a:gd name="textAreaTop" fmla="*/ 152640 h 381240"/>
              <a:gd name="textAreaBottom" fmla="*/ 228960 h 381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62976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4680" y="5410080"/>
            <a:ext cx="599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cruc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la calle aqu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80880" y="2209680"/>
            <a:ext cx="283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zar (z…c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 verbs, such as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st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irregular negative tú command fo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3908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t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191120" y="2438280"/>
            <a:ext cx="339084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d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esté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vay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se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member that pronouns are attached to 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affirmative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a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e pronoun is added to a command form that has two or more syllables, write an accent mark on the syllable stressed in the present ten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4114800" y="624852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ffirmative Tú Commands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ttac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the prono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Como la fru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cóme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l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negative commands, pronouns always go right 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befo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verb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3809880" y="5410080"/>
            <a:ext cx="39625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Como los dulces tambié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, no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lo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a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form negat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mmands with regular verbs, we drop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present-ten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m and add the following ending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5943600" y="5867280"/>
            <a:ext cx="2209680" cy="0"/>
          </a:xfrm>
          <a:prstGeom prst="line">
            <a:avLst/>
          </a:prstGeom>
          <a:ln cap="sq" w="7632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ice that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verbs take the ending -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at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er/ir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verbs take the ending -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tem-changing verbs the stem change rema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6400800" y="5867280"/>
            <a:ext cx="182880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594360" y="2376360"/>
            <a:ext cx="268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53920" y="32004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030280" y="312408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b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6781680" y="3352680"/>
            <a:ext cx="381240" cy="381240"/>
          </a:xfrm>
          <a:custGeom>
            <a:avLst/>
            <a:gdLst>
              <a:gd name="textAreaLeft" fmla="*/ 38160 w 381240"/>
              <a:gd name="textAreaRight" fmla="*/ 343440 w 381240"/>
              <a:gd name="textAreaTop" fmla="*/ 152640 h 381240"/>
              <a:gd name="textAreaBottom" fmla="*/ 228960 h 381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467840" y="3048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94000" y="4433760"/>
            <a:ext cx="42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habl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ho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94360" y="2376360"/>
            <a:ext cx="23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753920" y="320040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030280" y="312408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6781680" y="3352680"/>
            <a:ext cx="381240" cy="381240"/>
          </a:xfrm>
          <a:custGeom>
            <a:avLst/>
            <a:gdLst>
              <a:gd name="textAreaLeft" fmla="*/ 38160 w 381240"/>
              <a:gd name="textAreaRight" fmla="*/ 343440 w 381240"/>
              <a:gd name="textAreaTop" fmla="*/ 152640 h 381240"/>
              <a:gd name="textAreaBottom" fmla="*/ 228960 h 381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7468560" y="3048120"/>
            <a:ext cx="7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92560" y="4433760"/>
            <a:ext cx="382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coma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09480" y="2376360"/>
            <a:ext cx="29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CRIB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61480" y="3200400"/>
            <a:ext cx="194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crib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3657600" y="3581280"/>
            <a:ext cx="99072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800600" y="3124080"/>
            <a:ext cx="188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cr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6858000" y="3429000"/>
            <a:ext cx="380880" cy="380880"/>
          </a:xfrm>
          <a:custGeom>
            <a:avLst/>
            <a:gdLst>
              <a:gd name="textAreaLeft" fmla="*/ 37800 w 380880"/>
              <a:gd name="textAreaRight" fmla="*/ 343080 w 380880"/>
              <a:gd name="textAreaTop" fmla="*/ 152280 h 380880"/>
              <a:gd name="textAreaBottom" fmla="*/ 228600 h 380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7468560" y="3048120"/>
            <a:ext cx="7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616680" y="4433760"/>
            <a:ext cx="500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escribas ahor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use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teléfono en la clas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salt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l desayun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ponga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cha sal en la com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bs ending in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-car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, -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gar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zar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the following spelling changes in negat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mmands in order to maintain the original s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5334120" y="6095880"/>
            <a:ext cx="251460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3040" y="121572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Tú Comma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6880" y="3124080"/>
            <a:ext cx="224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C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15480" y="4191120"/>
            <a:ext cx="123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cap="sq"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964320" y="419112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q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5791320" y="4495680"/>
            <a:ext cx="380880" cy="381240"/>
          </a:xfrm>
          <a:custGeom>
            <a:avLst/>
            <a:gdLst>
              <a:gd name="textAreaLeft" fmla="*/ 37800 w 380880"/>
              <a:gd name="textAreaRight" fmla="*/ 343080 w 380880"/>
              <a:gd name="textAreaTop" fmla="*/ 152640 h 381240"/>
              <a:gd name="textAreaBottom" fmla="*/ 228960 h 381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cc00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629760" y="4191120"/>
            <a:ext cx="6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40080" y="5410080"/>
            <a:ext cx="653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 toqu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el piano ah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81600" y="2209680"/>
            <a:ext cx="317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car (c…qu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03:03:31Z</dcterms:created>
  <dc:creator>NIHS</dc:creator>
  <dc:description/>
  <dc:language>en-US</dc:language>
  <cp:lastModifiedBy>Windows User</cp:lastModifiedBy>
  <dcterms:modified xsi:type="dcterms:W3CDTF">2014-02-18T21:14:31Z</dcterms:modified>
  <cp:revision>9</cp:revision>
  <dc:subject/>
  <dc:title>No Slide Title</dc:title>
</cp:coreProperties>
</file>